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D10C-DF04-435A-BC3E-0EDB9AC0197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F86D-D747-4871-A7F1-16441AEFA87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7160-A758-41CC-B3AF-6BE0B61FE19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6E00-F71F-466E-827E-BC3D5C23DF5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E954-7D22-4789-A0D9-87292DE5665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A699-2CDB-4E15-AF2A-AC230070BCD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91C3-C211-4902-964D-FBB1301859B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A5B1-1A13-4A8A-9F13-E1015235D87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8509-F6B2-4799-AB95-1190CE045F4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9985-ED9C-4DAF-B523-766E253CC91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6B44-2B63-4E6A-BEA6-FEF31BD6D10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E2C5-6C79-4E19-A778-CABC485D267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7092-9450-4334-8170-FE0532BE44B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9D72-96BE-4376-B2AC-3F82EB03521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387B-409F-4407-BC04-4FAE6E65C6C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0792-6CA3-432D-A5AA-8AF1E310053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03C8-4D96-4D18-9E84-ADA8BEAC08B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0F2C-6B4C-4D67-80EB-0B5294FE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F804-5E48-4080-AAF9-A717842A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667D-3330-4ED0-86F9-3276EE8E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587E-9544-4CE2-A88F-CB5A658A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1F23-3497-4ED3-86DA-A113600D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C64F-AA82-417D-A60E-F26B9CF0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602B-D5DE-439E-B1BC-C0387945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03DE-DBDF-4A23-9CA2-015C1C0A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8C6E-D79E-43B4-9DFF-BBC55D34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162B-DF02-4521-81E2-91B31C65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5677-9095-41DC-8119-EAC71445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E76D-15A9-4D22-BDD9-51D04830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F65E-A022-4C9C-8613-2EA116E4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BFBD-266F-40E6-BA59-703914F9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A90F-D666-43A4-B467-E7AB0155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0850-3FCA-4798-8BB5-09AE9CF4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6B3F-60B1-4B26-8A83-B2024F3D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F15BB-6ACA-490F-A2AC-0A667813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682B6-54AA-489B-8340-E7D578D1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1E012-5C1F-47A2-B9AE-49471A43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3855B-5A73-436C-8245-1456C91E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DF1E9-6281-4F24-BD9A-70385865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A1A3-5A81-4189-B962-B39CACE9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89B17-5862-4068-B561-FF98779A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17DC1-BB8C-4EEC-9426-2ED65A7F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6EE15-690B-489F-8200-AC8355A4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6B2D7-3A09-488A-BB68-971DEF68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C8345-3AE8-4E15-B8B5-76603E68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C0873-6623-48D5-8E74-198ED413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4F7F4-0541-414B-A6AE-54579164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95FED-C11D-4C71-A3B0-F19B8E28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08018-D733-4F48-82C1-99D31DE3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BC788-56E9-425E-9E77-3D9EAD83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B518-3403-4374-80A8-341F211C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A25E7-0263-41FC-9986-F51EF33E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600A1-24FD-46AD-960E-FEDF577A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79CB7-298C-42C3-94C7-0C49E5DF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F2457-F7B1-4500-8A21-D38BD376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AF601-F88A-4701-88D8-83006B8F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7913A-4867-42E9-B465-AF72AC0E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44225-7701-408B-9154-5A4A2759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73617-B9C8-40C3-83AF-D93820AD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2B98D-FE8B-475A-B671-7D123138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3CE86-9C8E-4511-A437-225A6487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992-6B4F-4DFB-8E22-664FC7DB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24112-6C18-4BDF-8EAC-106D772A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E8383-9DB7-4529-B0AC-51A388F0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F5C95-AA48-4A9C-A40D-E5EFB075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A2986-C6A8-43A7-8392-1521E3EF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4B08E-0249-44C3-9FA8-A08B339A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5B9DB-11DE-4D97-825F-19C96F1E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FE95B-C165-41D8-B7D2-D8D2D091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4A71B-0405-491A-9A27-E240D9E1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B6E7A-0020-4104-A4ED-CD7464F5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33AD1-51FE-4403-8104-D3AEBC97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B94A-7D66-4AB4-9737-D751DB8D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BB62A-E696-4C0B-8019-342D532D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C5307-B584-4B64-92DC-3307022F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CA488-9D00-40E9-A598-D48CD7D2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DDCAE-A816-4D7C-92F6-7903A7B9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F9E1D-B315-49C3-BFBA-36187C64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34FC3-999D-443F-8742-2D11A96C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3BB7F-E84C-41F5-9721-C226EB83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2A99A-7290-4BF7-9257-69EBA06C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6F498-3522-47B5-BE14-9A5DC94A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B43CE-FBC8-4297-85E8-86683E6D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7103-C63A-479D-8F21-FD6D598E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34EBD-4EBA-4FA4-B173-52B2D069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5E26E-2D4B-4A4C-920E-BEC2017A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C57D1-866B-485D-84CB-48D24893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6025C-0A94-41EC-A1A3-7DB4DFD6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F6267-6A30-45ED-B69C-6A292624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E0B07-C081-43FB-90B9-2089661C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EDD80-B062-4F4E-B090-DC94E3FC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8F92B-01DD-4206-AD73-BD795D18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30CB7-ADDF-41C7-B521-75508826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39D8A-E63E-469F-BEFE-39B3679F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4339-0AF6-4727-8BB5-438BA1FB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45974-3CF5-4366-9C27-B9C22836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D7661-82E5-4CB6-A3F6-B6330278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865AB-F7A2-4F76-9B84-5B396013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52649-50B0-4A9B-828A-1B7A18EC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53D78-FB94-4400-A05A-351F0336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A85D-CE59-489D-BFD3-6415FA87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AC61-71E3-4393-BA19-4A1F60567E5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2DDA-3096-4C01-9884-F8CC0145AD0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7D4A-8575-4A81-8198-29615E55653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874D-5D1C-4A31-9BE8-1A2345C0DD5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B5A8-A8A6-4ABA-B9DE-52E3ADF4BB4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579C-F763-41D7-83F1-446084239D5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8932-40E7-43A6-A55C-0D04E434975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jena isplativosti ulaganj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koja izjednačava  sadašnju vrijednost novčanih tokova sa početnom investicijom (NSV=0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:  IRR mora biti veća od granične stope prinosa, tj.minimalne stope prinosa (troška kapitala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Promjena diskontne stop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Višestruke IRR (česte promjene znaka u novčanim tokovima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693.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451.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777.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537.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540.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4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rvo uzmemo diskontnu stopu koja dovodi do negativne NSV, npr 2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940.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890.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879.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421.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31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7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Onda uzmemo diskontnu stopu koja dovodi do pozitivne NSV, npr 1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Content Placeholder 3"/>
              <p:cNvSpPr txBox="1"/>
              <p:nvPr/>
            </p:nvSpPr>
            <p:spPr>
              <a:xfrm>
                <a:off x="1028880" y="1600200"/>
                <a:ext cx="8115120" cy="28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R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niza  Ds </m:t>
                    </m:r>
                    <m:r>
                      <m:t xml:space="preserve">+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ozitivna  NSV</m:t>
                        </m:r>
                        <m:eqAr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zbir apsolutnih 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rijednosti  pozitivne</m:t>
                                </m:r>
                              </m:den>
                            </m:f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i  negativne  NSV </m:t>
                        </m:r>
                      </m:e>
                      <m:e/>
                      <m:e/>
                      <m:e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isa  Ds - niza  D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1752480" y="2111400"/>
                <a:ext cx="6477120" cy="34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RR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iža  Ds 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zitivna  NSV</m:t>
                            </m:r>
                            <m:eqAr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bir apsolutnih 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rijednosti  pozitivne</m:t>
                                    </m:r>
                                  </m:den>
                                </m:f>
                              </m:e>
                            </m:eqArr>
                            <m:r>
                              <m:rPr>
                                <m:lit/>
                                <m:nor/>
                              </m:rPr>
                              <m:t xml:space="preserve">i  negativne  NSV </m:t>
                            </m:r>
                          </m:e>
                          <m:e/>
                          <m:e/>
                          <m:e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ša  Ds - niža Ds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5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 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0,37</m:t>
                                </m:r>
                              </m:den>
                            </m:f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-15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 (PI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24" name="TextBox 4"/>
          <p:cNvSpPr/>
          <p:nvPr/>
        </p:nvSpPr>
        <p:spPr>
          <a:xfrm>
            <a:off x="533520" y="45496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I = {CF1/(1+k)+CF2/(1+k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 …..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+ CFn/(1+k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ⁿ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}/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CO – inicijalni tok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F1, CF2… CFn – godisnji tokovi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 = {30,000/(1+0.1)+32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32,000/(1+0.1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40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}/1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I =1.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040" y="1828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Kriterijum: veci od 1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 – znači da je NSV 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&gt;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Nedostatak: relativna profitabil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Ocjena isplativosti ulaganj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tod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eriod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povr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aćaja investicij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na stopa prinos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to sada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š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ja vrijednos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deks profitabilnosti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Broj godina potreban da se vrati početna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Kriterijum prihvatanja: rok povraćaja mora biti manji od maksimalno prihvatljivog rok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 razmatra novčane tokove nakon isteka roka povraćaja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Zanemaruje vremensku vrijednost novca (jednostavna metoda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askimalno prihvatljiv rok povraćaja je subjektivan izbo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ora se koristiti paralelno sa drugim metodam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ezult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 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6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0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3,8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5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,7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,0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382" name="TextBox 4"/>
          <p:cNvSpPr/>
          <p:nvPr/>
        </p:nvSpPr>
        <p:spPr>
          <a:xfrm>
            <a:off x="762120" y="48006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((10,000 – (3,100 + 3,090 + 3,250))/3,320 = (10,000 – 9,440)/3,320 = 560/3,320 =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3 +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= 3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god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O,17*12=2,04  (2 mjeseca i o,04*30= 1,2 dan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Period povraćaja investicije iznosi 3 godine, 2 mjeseca i  1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ajrasprostranjenija metod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istem diskontovanog novčanog tok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adašnja vrijednost neto novčanih tokova iz projekta umanjena za početnu investicij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– trošak kapitala; zahtijevana stopa prinos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  - veća od nu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Tržišna cijena akcija se mijenja za iznos NSV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Ako je NSV nula, tržišna cijena se ne mijenj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onsolas"/>
              </a:rPr>
              <a:t>Neto sadaš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Ponderisani prosjek = 0,2*20% + 0,8*2% = 5,6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(20 + 2)/ 2 = 11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dnost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Vremenska vrijednost novc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jeri rizik budućih priliv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ikazuje apsolutnu vrijednost koju generiše projek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Jednostavnost metode (ne pokazuje kada se dostiže pozitivna vrijednost, u kojoj godini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tpostavka o neograničenim sredstvima (nema kapitalnog racionisanja). Ukoliko su sredstva ograničena nije bitna samo NSV, već i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iskontni fakto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+ 100*0.08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0*(1+0.08) 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= Sada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šnj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8 = Buduć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Ako je period duži od godinu da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9" descr=""/>
          <p:cNvPicPr/>
          <p:nvPr/>
        </p:nvPicPr>
        <p:blipFill>
          <a:blip r:embed="rId1"/>
          <a:stretch/>
        </p:blipFill>
        <p:spPr>
          <a:xfrm>
            <a:off x="0" y="457200"/>
            <a:ext cx="1076400" cy="466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"/>
          <p:cNvPicPr/>
          <p:nvPr/>
        </p:nvPicPr>
        <p:blipFill>
          <a:blip r:embed="rId2"/>
          <a:stretch/>
        </p:blipFill>
        <p:spPr>
          <a:xfrm>
            <a:off x="0" y="1380960"/>
            <a:ext cx="1619280" cy="466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3"/>
          <a:stretch/>
        </p:blipFill>
        <p:spPr>
          <a:xfrm>
            <a:off x="0" y="2305080"/>
            <a:ext cx="2085840" cy="4762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16" descr=""/>
          <p:cNvPicPr/>
          <p:nvPr/>
        </p:nvPicPr>
        <p:blipFill>
          <a:blip r:embed="rId4"/>
          <a:stretch/>
        </p:blipFill>
        <p:spPr>
          <a:xfrm>
            <a:off x="1295280" y="4114800"/>
            <a:ext cx="2057400" cy="892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5" descr=""/>
          <p:cNvPicPr/>
          <p:nvPr/>
        </p:nvPicPr>
        <p:blipFill>
          <a:blip r:embed="rId5"/>
          <a:stretch/>
        </p:blipFill>
        <p:spPr>
          <a:xfrm>
            <a:off x="1066680" y="5410080"/>
            <a:ext cx="2743200" cy="790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4" descr=""/>
          <p:cNvPicPr/>
          <p:nvPr/>
        </p:nvPicPr>
        <p:blipFill>
          <a:blip r:embed="rId6"/>
          <a:stretch/>
        </p:blipFill>
        <p:spPr>
          <a:xfrm>
            <a:off x="4800600" y="5486400"/>
            <a:ext cx="3048120" cy="6951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19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914400" y="1784520"/>
          <a:ext cx="7924680" cy="283500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  <a:gridCol w="1981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20:04:31Z</dcterms:created>
  <dc:creator>Miki</dc:creator>
  <dc:description/>
  <dc:language>en-US</dc:language>
  <cp:lastModifiedBy>boris</cp:lastModifiedBy>
  <dcterms:modified xsi:type="dcterms:W3CDTF">2012-12-18T21:14:00Z</dcterms:modified>
  <cp:revision>34</cp:revision>
  <dc:subject/>
  <dc:title>Finansijski menadzmet</dc:title>
</cp:coreProperties>
</file>