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53ED-5473-43AE-ADE3-9FF72CFBC44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E406-BAD7-4D49-B32A-148D336BA3D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994E-71C5-427F-9585-90E8B92DFA2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128C-C849-4E8C-BD55-26AF643C8A7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9F32-978C-491A-8E7D-D60D8732F45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F83C-81BF-4535-9FE1-D9702205DC6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107F-1E57-4497-BED6-E4BA367FBC1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62F9-A29F-43F9-BB2E-C7F78B5BC37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DB1A-A03F-4FB3-9173-4C14927C1E9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0C9B-2092-41E5-8CDE-E5037FD559B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B433-A636-4D49-B859-4EFFDF34543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7261-7BC8-4C88-B425-5FAB6964A8E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7A0C-BE00-4AC4-B936-88E7F1535F4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9825-52C9-4A6A-8ECE-AC453D064C2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0FE8-DEDF-4FE7-80B7-FCBADE7A03B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FCC3-4747-4EB5-AC91-8D986653B9E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A855-0AE3-4712-970A-7B2FC208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4511-C5A0-455A-BB5F-000D6F40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63C39-D0C6-44C7-96FD-9049298A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94437-3F5E-4802-8091-18FAD362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58A5C-9240-4F07-81A5-98A87BDD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0537D-AD43-4B25-A5C9-1732C4BF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02C31-F1B1-449A-9E8A-832EA1D8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69BBC-BFCE-4C0A-895F-628767BD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C754B-EF24-422B-9716-66C3FE4D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1CF98-53CF-48F6-949F-D0621034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601FB-D3B6-4F00-B893-2C554931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73F0B-E7A2-4E51-8452-44701CA3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1957-2F80-45DA-82C4-74E8CA92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4031A-58CC-41C8-990E-2ED26DE7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A9C36-3BCC-4A58-97D7-69709CDF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F5907-FF28-420F-BD78-56A7F109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3ACB0-580E-4245-A097-F1D13DA2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0CB10-B5F8-4F67-B275-6A200A85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EA9E6-0B9F-4EB1-9ACA-6A183655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C0D19-2F5F-4C54-9E5B-556037DB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FB31C-C70F-4882-BF79-87F32A8A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723EF-824E-4D99-8DC1-E6BA1C09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98CF0-27F7-4BAC-83D7-CB68C271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95BA-A802-493A-A89B-3FBCEFCF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4C6BE-808D-4B5A-A6E7-22855A88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FD198-A461-43BF-8544-58BC7D4B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C20E0-9E5F-4D81-BA6B-371608E2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AA1FC-8B60-43AF-A2B0-D2C797FB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57CCD-CEBD-4F30-9D6B-196B1588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6E7C1-6866-4E70-B11C-D6631A70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78548-96FA-4195-9576-D63E11E9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60C91-7D22-4557-A742-7CB9DEEF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D37F2-CEFC-402A-9A36-4CE378CD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24F47-A9CB-4DD8-AF15-F328026B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8EAA-200F-46F6-8CAB-42BE7D5D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CF1B0-0F23-4383-B38F-FE04CED3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85276-EE31-498E-A3AA-8691FC76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FC144-00D3-4613-AAA1-24BE8C4E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2E410-675A-4DB1-A294-E20C7C57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48A01-ADFF-4D04-8D4D-97B25511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62E23-F53D-4C66-8DE7-7B949030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E6B6B-7720-4BE7-8580-092FC83A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D5FDB-B940-4599-8C60-475FC2F5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4095B-CA9E-4D20-B9DD-FF90BA47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2C3C5-7F52-4949-BEF0-788DEAFC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26A0-C9B8-4E4F-8C2B-49FFCCFD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7BA6E-BDDA-4C72-AF6B-948CFF1C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C33B8-874E-4230-8060-5D2867EB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9C00D-D4DF-43F4-A5F1-5C907032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0A646-FAE4-4298-A343-1686B1CD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BC7BB-E405-4600-AAD4-DDD61BB6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FC48-75A3-4AED-A29B-0C6EC1B0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70E4-5375-4D93-ABA8-5ED9685C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DDE1-43E3-4E02-BF1B-26819876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D1AB-8D7D-4298-BD57-6823D7DA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FE02-C414-4D0E-9803-99648CA0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C03-BFDC-4BE1-A9C9-20812983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AAD7-65FC-4BE8-BD83-EBE7FC80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F0FA-3D02-4404-9206-1E03EF71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0709-BED8-4D8E-A6A0-F6C3EF69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421A-FF8C-40F4-A526-6368CFBE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AD90-9831-4399-83C5-D6863F38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63FE7-C3E8-4ABC-BF80-A234283E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BB84A-8398-48BB-831C-6944A996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FFACF-EFEE-4210-A9C0-50F650BC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82C8E-D362-4653-8DE4-DBEEB7C4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1E17C-F1B0-49F6-B3AD-0E65E57B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E40D-53DB-498A-8946-C02A72F5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09AA0-0C03-41AF-9058-8149A978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123E2-C9B9-4204-9E9E-17F9D2DB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BBE8D-0090-4432-BB88-A859557A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D2D8E-746E-44B0-A3D0-C27A29F9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D5923-7429-49E1-B30C-F0773132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D4CA8-B5E0-4747-8D8E-5B25EB23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D1B9A-B3D3-4917-891A-8A92B798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E8845-957B-40C5-943C-CA2ACFCF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90FC2-5D69-49CA-84C5-2FEF7224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F6D5E-CF48-4FA6-A2BE-29EFF0B3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4838-3C51-4043-88A7-7994EEFE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32848-2BFD-4DF1-88A2-654BFF7C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F04A6-A25D-44FA-957A-FDE250B4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B0B3A-AAE1-4514-B4ED-7C50534C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C6C47-5395-4C7E-93CA-BB169575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2D5FA-06BA-4B11-B052-428A6938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B9113-5AE3-4F9C-9024-8175ECC9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B85AD-60A9-478D-B227-244578D2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37BF6-3102-4A54-A0EB-000D5245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467CD-D484-4BE8-AB3F-37890F2E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2FA6A-0048-4AA1-904E-A5E7DAB0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DD20-E500-49A9-B25A-E4D25FE3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D3635-376A-4C4F-8D97-E55CD02D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2DFAA-7840-44A4-9CA1-1B5E30AF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9F995-242A-4AE7-8563-F618B889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7F4B5-A767-4BA4-908B-8B153B98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63501-5AFF-4F5F-99AD-44651F1E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3F1F8-FC21-4A7A-809A-00B45D15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8D0D9-F244-4456-96F4-4B055E24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BD3F2-4876-4453-A6D3-E481082D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197E4-762D-48C0-ABA5-D35C2D41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FDBA9-A584-4637-AA19-BF9358C2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77C3-62D9-4975-A1FA-AF839272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BE1E4-10E0-4442-9B87-DDDAC4D0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828A2-02C9-49F6-B462-72EA25DC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89965-E2F4-4825-AAA1-F13577B5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22516-8C2E-4134-BC75-34AC0629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A4325-C355-4F6C-9DBB-F0F6A2A6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44B94-F776-4DDE-A007-329B2681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B5A1E-5C95-4C0D-B06A-9FEB960D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97C3E-BD6B-45FA-A10E-FC109F74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CD2FF-5EA5-4632-BAB4-0D9EA1EC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B5300-41D2-4F56-A480-1B1840D8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A14-40A2-4539-B899-07BBD180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5E9A6-3D20-4BC9-B7C4-92466510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79676-171E-4179-A06D-F9C42ECB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CB2AE-CE7E-4DF1-8CD3-4AA45C62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0E9CE-1C70-4FE3-8F49-93DA36EC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B5BE9-CF93-4B87-A6D9-8E38AD28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D90AF-E37D-4497-8906-67D2DAF0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E553E-0D6D-4E34-82F5-E0D589DC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EAF98-1BC1-4E26-A253-B69D50C0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4BF19-D06E-457E-93D3-71736BD6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4B535-A999-451B-B4EC-26B74625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5F31-505E-45ED-AB2E-428C983D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7CB49-85A2-41D3-84F4-1E70E90B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F619F-2510-4D62-A48D-F767F5E7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AEA2D-4C98-4DF1-97A7-C770E469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D39CE-1AAC-43ED-99C3-FC470F2E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4C128-F8BE-4468-AC9D-7E58E530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5231A-31FE-4FAB-8E96-3BBC038A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60C44-199D-4A3F-947D-E114A5BE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8FBDA-6D69-49E4-8F16-F4B334BB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CDE80-CC8B-414C-B6FC-623624D5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FB325-C75E-4CA8-A57C-BEE756C0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58AD-9F4D-4E7D-A298-649C8BF9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DE2F8-0E61-404A-9B4E-00C46F2E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7D8DE-B19F-4117-8B04-562CF965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1D9F5-247A-42B5-8489-C08928C5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21A5E-B67F-4212-9A6A-2B98AD8F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19EA1-C857-41D3-82D6-1E276B51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9305C-5AB0-4D18-9848-814A7D6C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18D42-F441-40B9-83D2-4AE4889D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26D71-9449-43B3-AD8F-34678B15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2F069-9D30-46E5-BDEE-BE033DA5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85DF9-F0B4-4B2E-9645-E4BA3A2F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14E3-67E1-4FEC-9A9F-BF417BCAF09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3555-4BB2-4505-A93B-7274B5B2DAAB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CEA9-2220-4518-8DBA-2808F5483D8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03B1-719A-4E11-B322-A39DE0CF6D0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D683-7C9B-4076-A7C5-FF80DA7BAD6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9445-7DC7-4033-8A0B-CB1806DF5DA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AFEB-BF70-4B2B-ADE7-5816A4833AFC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96E5-DEAE-4B67-AE8D-E8AAB77B6DD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068C-B83C-4B88-963E-6B84E2BB7EB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FA44-7317-481E-8043-1661989C51D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32B7-5CE1-43BD-AFB6-70095A6B0C5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F1F5-DE34-4C99-BDF4-30E91DAB7C4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nansijski menad</a:t>
            </a:r>
            <a:r>
              <a:rPr b="0" lang="sr-Latn-CS" sz="3200" spc="-1" strike="noStrike">
                <a:solidFill>
                  <a:srgbClr val="000000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in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457200" y="1600200"/>
          <a:ext cx="8229600" cy="404352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rethodne godine (2-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bilansa st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lanske godine (4-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inimalna akumulacija za odrzavanje nepromijenjene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finansijske ravnoteze (6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aks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228600" y="1676520"/>
          <a:ext cx="8534520" cy="3031920"/>
        </p:xfrm>
        <a:graphic>
          <a:graphicData uri="http://schemas.openxmlformats.org/drawingml/2006/table">
            <a:tbl>
              <a:tblPr/>
              <a:tblGrid>
                <a:gridCol w="1185840"/>
                <a:gridCol w="7348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plan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(2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za ulaganja u nove investicione programe u narednim godin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aksimalna akumulacija (3+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Mogu</a:t>
            </a:r>
            <a:r>
              <a:rPr b="0" lang="sr-Latn-CS" sz="2900" spc="-1" strike="noStrike">
                <a:solidFill>
                  <a:srgbClr val="464653"/>
                </a:solidFill>
                <a:latin typeface="Bookman Old Style"/>
              </a:rPr>
              <a:t>ć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nost ostvarenja minimalno i maksimalno potrebne akumulacij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va varijanta bilansa u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 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rodajnih cijena (pariteta prodajnih i nabavnih cijena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 obima proizvodnje i prodaj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ona</a:t>
            </a:r>
            <a:r>
              <a:rPr b="0" lang="sr-Latn-CS" sz="26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 varijanta planskog bilansa us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oslov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Object 10"/>
          <p:cNvGraphicFramePr/>
          <p:nvPr/>
        </p:nvGraphicFramePr>
        <p:xfrm>
          <a:off x="304920" y="2438280"/>
          <a:ext cx="800100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8001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11"/>
          <p:cNvGraphicFramePr/>
          <p:nvPr/>
        </p:nvGraphicFramePr>
        <p:xfrm>
          <a:off x="762120" y="4343400"/>
          <a:ext cx="739116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343400"/>
                    <a:ext cx="73911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68" name="Object 8"/>
          <p:cNvGraphicFramePr/>
          <p:nvPr/>
        </p:nvGraphicFramePr>
        <p:xfrm>
          <a:off x="0" y="2209680"/>
          <a:ext cx="84121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841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9"/>
          <p:cNvGraphicFramePr/>
          <p:nvPr/>
        </p:nvGraphicFramePr>
        <p:xfrm>
          <a:off x="533520" y="4038480"/>
          <a:ext cx="7867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7867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lo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73" name="Object 5"/>
          <p:cNvGraphicFramePr/>
          <p:nvPr/>
        </p:nvGraphicFramePr>
        <p:xfrm>
          <a:off x="0" y="1828800"/>
          <a:ext cx="853452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85345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6"/>
          <p:cNvGraphicFramePr/>
          <p:nvPr/>
        </p:nvGraphicFramePr>
        <p:xfrm>
          <a:off x="304920" y="3429000"/>
          <a:ext cx="8458200" cy="91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429000"/>
                    <a:ext cx="84582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-99072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Object 11"/>
          <p:cNvGraphicFramePr/>
          <p:nvPr/>
        </p:nvGraphicFramePr>
        <p:xfrm>
          <a:off x="380880" y="4952880"/>
          <a:ext cx="844884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952880"/>
                    <a:ext cx="84488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uspjeh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novcanih tok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dugorocnih ulag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da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nabavk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izvodn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ulaganja u stalna sredst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kadr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ski bilans uspjeha – prva varijant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42" name="Content Placeholder 3" descr=""/>
          <p:cNvPicPr/>
          <p:nvPr/>
        </p:nvPicPr>
        <p:blipFill>
          <a:blip r:embed="rId1"/>
          <a:stretch/>
        </p:blipFill>
        <p:spPr>
          <a:xfrm>
            <a:off x="1603440" y="1225440"/>
            <a:ext cx="61880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iranje obrtnih sredstav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457200" y="1219320"/>
          <a:ext cx="8305920" cy="5213160"/>
        </p:xfrm>
        <a:graphic>
          <a:graphicData uri="http://schemas.openxmlformats.org/drawingml/2006/table">
            <a:tbl>
              <a:tblPr/>
              <a:tblGrid>
                <a:gridCol w="692280"/>
                <a:gridCol w="2922480"/>
                <a:gridCol w="922320"/>
                <a:gridCol w="923760"/>
                <a:gridCol w="1460520"/>
                <a:gridCol w="13845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obtnih sredst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cinak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veziv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a obrtna sredstva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u blagaj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na depozitnim racuni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artije od vrijed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od kupa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za avan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potraziva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rovine i repromaterij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na zali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zavrsena proizvod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lu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 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govacka r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u upotre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tivna vremenska razgranice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plasma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obrtna sredstva (1 do 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pontanih izvora i kratkorocnih kredi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57200" y="1219320"/>
          <a:ext cx="8458200" cy="5578200"/>
        </p:xfrm>
        <a:graphic>
          <a:graphicData uri="http://schemas.openxmlformats.org/drawingml/2006/table">
            <a:tbl>
              <a:tblPr/>
              <a:tblGrid>
                <a:gridCol w="627120"/>
                <a:gridCol w="2504880"/>
                <a:gridCol w="1409760"/>
                <a:gridCol w="1254240"/>
                <a:gridCol w="1487520"/>
                <a:gridCol w="117468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izv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č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ak u toku planskog peri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raspolo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ž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v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i izvori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ci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7,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datim hartijama od vrijed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,6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 na prom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kamate, dividende i naknade za ulo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na finansijski rezul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ostale dazb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neto licne dohot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iz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avansima kupa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obustavama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sivna vremenska razgranice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ntani izvori i 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2,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osnovnih sredstava i dugorocnih plasman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533520" y="1676520"/>
          <a:ext cx="8229600" cy="2428920"/>
        </p:xfrm>
        <a:graphic>
          <a:graphicData uri="http://schemas.openxmlformats.org/drawingml/2006/table">
            <a:tbl>
              <a:tblPr/>
              <a:tblGrid>
                <a:gridCol w="685800"/>
                <a:gridCol w="2590560"/>
                <a:gridCol w="990720"/>
                <a:gridCol w="1219320"/>
                <a:gridCol w="1295280"/>
                <a:gridCol w="144792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novna sred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9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i plasm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talna sredstva (1 +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3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opstvenog kapitala i dugorocnih obavez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457200" y="1219320"/>
          <a:ext cx="8229600" cy="3012840"/>
        </p:xfrm>
        <a:graphic>
          <a:graphicData uri="http://schemas.openxmlformats.org/drawingml/2006/table">
            <a:tbl>
              <a:tblPr/>
              <a:tblGrid>
                <a:gridCol w="609480"/>
                <a:gridCol w="2667240"/>
                <a:gridCol w="1447560"/>
                <a:gridCol w="1143000"/>
                <a:gridCol w="1143000"/>
                <a:gridCol w="12193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pis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nominir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a rezervisanja za rizi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e obave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opstveni kapital i dugorocne obaveze ( 1 do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7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9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ugorocna finansijska ravnotez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57200" y="1600200"/>
          <a:ext cx="8229600" cy="2865600"/>
        </p:xfrm>
        <a:graphic>
          <a:graphicData uri="http://schemas.openxmlformats.org/drawingml/2006/table">
            <a:tbl>
              <a:tblPr/>
              <a:tblGrid>
                <a:gridCol w="1066680"/>
                <a:gridCol w="716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stveni kapital i dugoroc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to dobitak/gubitak po prvoj varijanti planskog bilansa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, dugorocne obaveze i neto dobitak/gubitak (1+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stalna sredst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e stalne zali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cno vezana sredstva (4+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16:36Z</dcterms:created>
  <dc:creator>Miki</dc:creator>
  <dc:description/>
  <dc:language>en-US</dc:language>
  <cp:lastModifiedBy>boris</cp:lastModifiedBy>
  <dcterms:modified xsi:type="dcterms:W3CDTF">2012-11-28T18:30:49Z</dcterms:modified>
  <cp:revision>32</cp:revision>
  <dc:subject/>
  <dc:title>Finansijski menadzment</dc:title>
</cp:coreProperties>
</file>